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BD59-3989-4014-8694-762E0D40C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93B7-02F4-43E9-A021-DE6332D8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109A-8B8C-41EB-BF22-E313E9DC4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F0B86-20B5-4E60-AFBE-4FA4047E5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DAFBE-48FE-4222-8595-EA0B43279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0CEBC-E599-4B90-BF08-232ED9557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A614A-A1DA-43FC-AEDA-AAE89B26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20E1-348D-4EBD-A626-4858D452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602A2-3DBC-42D6-893E-2D54BFD22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6FAC7-B957-4FD0-BB58-00F40CC3D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4164E-AADC-4F8A-8773-378F539D1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98CE-AA64-4099-8C2C-52586493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B9354-6D4E-4B48-BD46-91717A83F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91378-D55F-490B-AB24-109A7ED60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7277C-C335-40C9-8479-234DDACF7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AAAAC-3C6F-4768-89E9-6688967CB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FBC93-5262-461F-8FAC-3EFBB6366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D991-4DC4-4E4C-9BAF-BB1B76E6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D0A1C-EDBB-40E0-9C72-FFBC736B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22B0-CA27-45C0-B159-5A347EA1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09B3-52B4-4ED8-8146-4491127F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D791-5DDF-4262-A682-58B2243A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082B-25F9-4151-A6AD-DCBFE359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ECF6-B87A-4F90-A277-B4EA198A8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3B0F-52E1-405C-901B-E2DCA61245E7}"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8180-CECE-4CE6-846B-061DF1DF27B6}"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ivil Rights, Civil Liberties and the US Constitution</a:t>
            </a:r>
            <a:endParaRPr b="0" lang="en-US" sz="44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Unit Portfolio Presentation</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Matt Varley</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tudents will take part in a series of activities designed to explore the civil right protections afforded by the U.S. Constitution.  Each student will research Constitutional amendments and how the Supreme Court has interpreted them, then report their findings in either a newspaper article or interview format. </a:t>
            </a:r>
            <a:endParaRPr b="0" lang="en-US" sz="32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Essential Question </a:t>
            </a:r>
            <a:br>
              <a:rPr sz="2800"/>
            </a:br>
            <a:r>
              <a:rPr b="0" lang="en-US" sz="2400" spc="-1" strike="noStrike">
                <a:solidFill>
                  <a:srgbClr val="4f261e"/>
                </a:solidFill>
                <a:latin typeface="Garamond"/>
              </a:rPr>
              <a:t>How much power should the government have to control my life?</a:t>
            </a:r>
            <a:r>
              <a:rPr b="1" lang="en-US" sz="2400" spc="-1" strike="noStrike">
                <a:solidFill>
                  <a:srgbClr val="4f261e"/>
                </a:solidFill>
                <a:latin typeface="Garamond"/>
              </a:rPr>
              <a:t> </a:t>
            </a:r>
            <a:endParaRPr b="0" lang="en-US" sz="2400" spc="-1" strike="noStrike">
              <a:solidFill>
                <a:srgbClr val="4f261e"/>
              </a:solidFill>
              <a:latin typeface="Garamond"/>
            </a:endParaRPr>
          </a:p>
          <a:p>
            <a:pPr marL="308520" indent="-308520">
              <a:lnSpc>
                <a:spcPct val="80000"/>
              </a:lnSpc>
              <a:spcBef>
                <a:spcPts val="700"/>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Questions</a:t>
            </a:r>
            <a:endParaRPr b="0" lang="en-US" sz="28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How much protection should be given to the civil rights and civil liberties of citizens?</a:t>
            </a:r>
            <a:endParaRPr b="0" lang="en-US" sz="24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Does the U.S. Constitution and the Supreme Court adequately protect the civil rights of its citizens? </a:t>
            </a:r>
            <a:endParaRPr b="0" lang="en-US" sz="2400" spc="-1" strike="noStrike">
              <a:solidFill>
                <a:srgbClr val="4f261e"/>
              </a:solidFill>
              <a:latin typeface="Garamond"/>
            </a:endParaRPr>
          </a:p>
          <a:p>
            <a:pPr marL="308520" indent="-308520">
              <a:lnSpc>
                <a:spcPct val="80000"/>
              </a:lnSpc>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Content Questions</a:t>
            </a:r>
            <a:br>
              <a:rPr sz="2800"/>
            </a:br>
            <a:r>
              <a:rPr b="0" lang="en-US" sz="2400" spc="-1" strike="noStrike">
                <a:solidFill>
                  <a:srgbClr val="4f261e"/>
                </a:solidFill>
                <a:latin typeface="Garamond"/>
              </a:rPr>
              <a:t>What protections are given to citizens in the Bill of Rights and other amendments to the U.S. Constitution ?</a:t>
            </a:r>
            <a:endParaRPr b="0" lang="en-US" sz="24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How has the Supreme Court specifically interpreted the civil rights protections of the Constitution?</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61e"/>
                </a:solidFill>
                <a:latin typeface="Garamond"/>
              </a:rPr>
              <a:t>Civil Rights, Civil Liberties, and the U.S. Constitution Project</a:t>
            </a:r>
            <a:endParaRPr b="0" lang="en-US" sz="4000" spc="-1" strike="noStrike">
              <a:solidFill>
                <a:srgbClr val="4f261e"/>
              </a:solidFill>
              <a:latin typeface="Garamond"/>
            </a:endParaRPr>
          </a:p>
        </p:txBody>
      </p:sp>
      <p:sp>
        <p:nvSpPr>
          <p:cNvPr id="93"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94" name=""/>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aborating with peer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ecting data through a variety of print and electronic sources about civil rights and civil libertie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Analyzing and synthesizing complex information regarding the U.S. Constitution and federal court interpretations of the Constitution </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mmunicating with others in a newspaper or interview format</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5000"/>
          </a:bodyPr>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increase student awareness of their civil rights and liberties under the U.S. Constitution</a:t>
            </a:r>
            <a:endParaRPr b="0" lang="en-US" sz="3200" spc="-1" strike="noStrike">
              <a:solidFill>
                <a:srgbClr val="4f261e"/>
              </a:solidFill>
              <a:latin typeface="Garamond"/>
            </a:endParaRPr>
          </a:p>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Have students identify problematic or controversial areas pertaining to civil rights throughout American history</a:t>
            </a:r>
            <a:endParaRPr b="0" lang="en-US" sz="3200" spc="-1" strike="noStrike">
              <a:solidFill>
                <a:srgbClr val="4f261e"/>
              </a:solidFill>
              <a:latin typeface="Garamond"/>
            </a:endParaRPr>
          </a:p>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Have students collaborate in their research and </a:t>
            </a:r>
            <a:endParaRPr b="0" lang="en-US" sz="3200" spc="-1" strike="noStrike">
              <a:solidFill>
                <a:srgbClr val="4f261e"/>
              </a:solidFill>
              <a:latin typeface="Garamond"/>
            </a:endParaRPr>
          </a:p>
        </p:txBody>
      </p:sp>
      <p:sp>
        <p:nvSpPr>
          <p:cNvPr id="96"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Unit</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9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Places I could find a classroom in a different climate for my students to work with</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Eldred Central School</cp:lastModifiedBy>
  <dcterms:modified xsi:type="dcterms:W3CDTF">2010-06-30T18:29:48Z</dcterms:modified>
  <cp:revision>14</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